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584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D97-390C-41E9-A137-8168F48B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807-D791-4145-8520-46FE2428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FD0-5173-40DB-8C12-632D304C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00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720" y="17064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00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720" y="4228200"/>
            <a:ext cx="291456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067-C9EA-4D03-B06F-E2BAC069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B54-81E6-4B7D-8069-0DB9A9BA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42E-E085-4959-A386-7C819FF2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3FA-3F31-4444-89E5-186CAD94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F0B-2D83-4652-B237-59116674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3760"/>
            <a:ext cx="9051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D84-829A-4919-A9DA-421539BF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1EC-CC18-4087-B42C-8C10BD74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2282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A13-2865-4C12-B72F-4DFC51EA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706400"/>
            <a:ext cx="441720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28200"/>
            <a:ext cx="9051840" cy="2302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48B-C892-4545-A6FB-D9864247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3760"/>
            <a:ext cx="905184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06400"/>
            <a:ext cx="9051840" cy="482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6660720"/>
            <a:ext cx="318456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6660720"/>
            <a:ext cx="2346120" cy="50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5619A482-445C-40B6-8433-39B79DBFBC37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19240" y="1868400"/>
            <a:ext cx="6019920" cy="438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04920" y="76320"/>
            <a:ext cx="944856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0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Cooper Black"/>
              </a:rPr>
              <a:t>What's for dinner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409760" y="6342120"/>
            <a:ext cx="7238880" cy="7034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Pond Water Food We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086600"/>
            <a:ext cx="327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cod.edu/people/faculty/fancher/FoodChain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064280"/>
            <a:ext cx="604980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ood Web Graphic - http://staff.harrisonburg.k12.va.us/~gharper/bay/weboflifepage/foodweb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952880"/>
            <a:ext cx="5105160" cy="944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Which organisms are the produc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_______ __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4952880"/>
            <a:ext cx="3429000" cy="1775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Identify the consumers..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– Carn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 – Omn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 – Herbivo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 - Planktiv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228600"/>
            <a:ext cx="7239240" cy="4495680"/>
            <a:chOff x="1295280" y="228600"/>
            <a:chExt cx="7239240" cy="4495680"/>
          </a:xfrm>
        </p:grpSpPr>
        <p:grpSp>
          <p:nvGrpSpPr>
            <p:cNvPr id="49" name=""/>
            <p:cNvGrpSpPr/>
            <p:nvPr/>
          </p:nvGrpSpPr>
          <p:grpSpPr>
            <a:xfrm>
              <a:off x="1646280" y="228600"/>
              <a:ext cx="6537240" cy="4360680"/>
              <a:chOff x="1646280" y="228600"/>
              <a:chExt cx="6537240" cy="436068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rcRect l="0" t="3693" r="0" b="0"/>
              <a:stretch/>
            </p:blipFill>
            <p:spPr>
              <a:xfrm>
                <a:off x="1646280" y="249120"/>
                <a:ext cx="6537240" cy="434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706400" y="228600"/>
                <a:ext cx="8377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73280" y="228600"/>
                <a:ext cx="83808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1295280" y="228600"/>
              <a:ext cx="7239240" cy="4495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3886200"/>
            <a:ext cx="9136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would happen if the mussels were to die out due to a dis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080" y="5030640"/>
            <a:ext cx="913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would the zooplankton be affected if the fish population were to increa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3080" y="6176880"/>
            <a:ext cx="9135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would the whelk population be affected if crabs were remov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057400" y="304920"/>
            <a:ext cx="5867280" cy="3200400"/>
            <a:chOff x="2057400" y="304920"/>
            <a:chExt cx="5867280" cy="3200400"/>
          </a:xfrm>
        </p:grpSpPr>
        <p:grpSp>
          <p:nvGrpSpPr>
            <p:cNvPr id="59" name=""/>
            <p:cNvGrpSpPr/>
            <p:nvPr/>
          </p:nvGrpSpPr>
          <p:grpSpPr>
            <a:xfrm>
              <a:off x="2341800" y="304920"/>
              <a:ext cx="5298120" cy="3104280"/>
              <a:chOff x="2341800" y="304920"/>
              <a:chExt cx="5298120" cy="310428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rcRect l="0" t="3693" r="0" b="0"/>
              <a:stretch/>
            </p:blipFill>
            <p:spPr>
              <a:xfrm>
                <a:off x="2341800" y="319320"/>
                <a:ext cx="5298120" cy="308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2390760" y="304920"/>
                <a:ext cx="67896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51840" y="304920"/>
                <a:ext cx="679320" cy="27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2057400" y="304920"/>
              <a:ext cx="5867280" cy="3200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8120" y="304920"/>
            <a:ext cx="989028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it’s your turn to create a food web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Cut apart the Life in a Pond cards and sort them into three categories: producers, consumers, and decomposers. Create four food chains in the space below.  Remember, each food chain must start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95280" y="2682720"/>
            <a:ext cx="4467240" cy="685800"/>
            <a:chOff x="1295280" y="2682720"/>
            <a:chExt cx="4467240" cy="685800"/>
          </a:xfrm>
        </p:grpSpPr>
        <p:grpSp>
          <p:nvGrpSpPr>
            <p:cNvPr id="66" name=""/>
            <p:cNvGrpSpPr/>
            <p:nvPr/>
          </p:nvGrpSpPr>
          <p:grpSpPr>
            <a:xfrm>
              <a:off x="1295280" y="2682720"/>
              <a:ext cx="1576080" cy="685800"/>
              <a:chOff x="1295280" y="2682720"/>
              <a:chExt cx="1576080" cy="6858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5280" y="26827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08920" y="30254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2871720" y="2682720"/>
              <a:ext cx="1576080" cy="685800"/>
              <a:chOff x="2871720" y="2682720"/>
              <a:chExt cx="1576080" cy="685800"/>
            </a:xfrm>
          </p:grpSpPr>
          <p:sp>
            <p:nvSpPr>
              <p:cNvPr id="70" name=""/>
              <p:cNvSpPr/>
              <p:nvPr/>
            </p:nvSpPr>
            <p:spPr>
              <a:xfrm>
                <a:off x="2871720" y="26827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85360" y="30254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4448520" y="2682720"/>
              <a:ext cx="131400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295280" y="3616200"/>
            <a:ext cx="6043320" cy="689040"/>
            <a:chOff x="1295280" y="3616200"/>
            <a:chExt cx="6043320" cy="689040"/>
          </a:xfrm>
        </p:grpSpPr>
        <p:grpSp>
          <p:nvGrpSpPr>
            <p:cNvPr id="74" name=""/>
            <p:cNvGrpSpPr/>
            <p:nvPr/>
          </p:nvGrpSpPr>
          <p:grpSpPr>
            <a:xfrm>
              <a:off x="1295280" y="3616200"/>
              <a:ext cx="1576080" cy="689040"/>
              <a:chOff x="1295280" y="3616200"/>
              <a:chExt cx="1576080" cy="689040"/>
            </a:xfrm>
          </p:grpSpPr>
          <p:sp>
            <p:nvSpPr>
              <p:cNvPr id="75" name=""/>
              <p:cNvSpPr/>
              <p:nvPr/>
            </p:nvSpPr>
            <p:spPr>
              <a:xfrm>
                <a:off x="129528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0892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871720" y="3616200"/>
              <a:ext cx="1576080" cy="689040"/>
              <a:chOff x="2871720" y="3616200"/>
              <a:chExt cx="1576080" cy="689040"/>
            </a:xfrm>
          </p:grpSpPr>
          <p:sp>
            <p:nvSpPr>
              <p:cNvPr id="78" name=""/>
              <p:cNvSpPr/>
              <p:nvPr/>
            </p:nvSpPr>
            <p:spPr>
              <a:xfrm>
                <a:off x="287172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8536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448520" y="3616200"/>
              <a:ext cx="1576080" cy="689040"/>
              <a:chOff x="4448520" y="3616200"/>
              <a:chExt cx="1576080" cy="689040"/>
            </a:xfrm>
          </p:grpSpPr>
          <p:sp>
            <p:nvSpPr>
              <p:cNvPr id="81" name=""/>
              <p:cNvSpPr/>
              <p:nvPr/>
            </p:nvSpPr>
            <p:spPr>
              <a:xfrm>
                <a:off x="4448520" y="3616200"/>
                <a:ext cx="1313640" cy="68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762160" y="39607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024960" y="3616200"/>
              <a:ext cx="1313640" cy="68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295280" y="4552920"/>
            <a:ext cx="7619760" cy="685800"/>
            <a:chOff x="1295280" y="4552920"/>
            <a:chExt cx="7619760" cy="685800"/>
          </a:xfrm>
        </p:grpSpPr>
        <p:grpSp>
          <p:nvGrpSpPr>
            <p:cNvPr id="85" name=""/>
            <p:cNvGrpSpPr/>
            <p:nvPr/>
          </p:nvGrpSpPr>
          <p:grpSpPr>
            <a:xfrm>
              <a:off x="1295280" y="4552920"/>
              <a:ext cx="1576080" cy="685800"/>
              <a:chOff x="1295280" y="4552920"/>
              <a:chExt cx="1576080" cy="6858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0892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871720" y="4552920"/>
              <a:ext cx="1576080" cy="685800"/>
              <a:chOff x="2871720" y="4552920"/>
              <a:chExt cx="1576080" cy="685800"/>
            </a:xfrm>
          </p:grpSpPr>
          <p:sp>
            <p:nvSpPr>
              <p:cNvPr id="89" name=""/>
              <p:cNvSpPr/>
              <p:nvPr/>
            </p:nvSpPr>
            <p:spPr>
              <a:xfrm>
                <a:off x="287172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18536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448160" y="4552920"/>
              <a:ext cx="1576080" cy="685800"/>
              <a:chOff x="4448160" y="4552920"/>
              <a:chExt cx="1576080" cy="685800"/>
            </a:xfrm>
          </p:grpSpPr>
          <p:sp>
            <p:nvSpPr>
              <p:cNvPr id="92" name=""/>
              <p:cNvSpPr/>
              <p:nvPr/>
            </p:nvSpPr>
            <p:spPr>
              <a:xfrm>
                <a:off x="444816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6180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024960" y="4552920"/>
              <a:ext cx="1576080" cy="685800"/>
              <a:chOff x="6024960" y="4552920"/>
              <a:chExt cx="1576080" cy="685800"/>
            </a:xfrm>
          </p:grpSpPr>
          <p:sp>
            <p:nvSpPr>
              <p:cNvPr id="95" name=""/>
              <p:cNvSpPr/>
              <p:nvPr/>
            </p:nvSpPr>
            <p:spPr>
              <a:xfrm>
                <a:off x="6024960" y="455292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38600" y="489564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601400" y="4552920"/>
              <a:ext cx="13136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95280" y="5486400"/>
            <a:ext cx="7619760" cy="685800"/>
            <a:chOff x="1295280" y="5486400"/>
            <a:chExt cx="7619760" cy="685800"/>
          </a:xfrm>
        </p:grpSpPr>
        <p:grpSp>
          <p:nvGrpSpPr>
            <p:cNvPr id="99" name=""/>
            <p:cNvGrpSpPr/>
            <p:nvPr/>
          </p:nvGrpSpPr>
          <p:grpSpPr>
            <a:xfrm>
              <a:off x="1295280" y="5486400"/>
              <a:ext cx="1576080" cy="685800"/>
              <a:chOff x="1295280" y="5486400"/>
              <a:chExt cx="1576080" cy="685800"/>
            </a:xfrm>
          </p:grpSpPr>
          <p:sp>
            <p:nvSpPr>
              <p:cNvPr id="100" name=""/>
              <p:cNvSpPr/>
              <p:nvPr/>
            </p:nvSpPr>
            <p:spPr>
              <a:xfrm>
                <a:off x="129528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0892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871720" y="5486400"/>
              <a:ext cx="1576080" cy="685800"/>
              <a:chOff x="2871720" y="5486400"/>
              <a:chExt cx="1576080" cy="685800"/>
            </a:xfrm>
          </p:grpSpPr>
          <p:sp>
            <p:nvSpPr>
              <p:cNvPr id="103" name=""/>
              <p:cNvSpPr/>
              <p:nvPr/>
            </p:nvSpPr>
            <p:spPr>
              <a:xfrm>
                <a:off x="287172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8536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448160" y="5486400"/>
              <a:ext cx="1576080" cy="685800"/>
              <a:chOff x="4448160" y="5486400"/>
              <a:chExt cx="1576080" cy="685800"/>
            </a:xfrm>
          </p:grpSpPr>
          <p:sp>
            <p:nvSpPr>
              <p:cNvPr id="106" name=""/>
              <p:cNvSpPr/>
              <p:nvPr/>
            </p:nvSpPr>
            <p:spPr>
              <a:xfrm>
                <a:off x="444816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6180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024960" y="5486400"/>
              <a:ext cx="1576080" cy="685800"/>
              <a:chOff x="6024960" y="5486400"/>
              <a:chExt cx="1576080" cy="685800"/>
            </a:xfrm>
          </p:grpSpPr>
          <p:sp>
            <p:nvSpPr>
              <p:cNvPr id="109" name=""/>
              <p:cNvSpPr/>
              <p:nvPr/>
            </p:nvSpPr>
            <p:spPr>
              <a:xfrm>
                <a:off x="6024960" y="5486400"/>
                <a:ext cx="1313640" cy="685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38600" y="5829120"/>
                <a:ext cx="26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601400" y="5486400"/>
              <a:ext cx="13136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8120" y="380880"/>
            <a:ext cx="973800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Use at least 10 of the cards to create a food web to show the relationship between the organisms in a pond habitat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must use the three cards with st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  After you have created the food web, glue the pieces onto a large sheet of construction paper and add arrows to show the feeding relationship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 – Arrows go to the organism that does the ea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.  Answer the questions on your worksh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00200" y="3273480"/>
            <a:ext cx="1038240" cy="1082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32200" y="3400560"/>
            <a:ext cx="1832040" cy="82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1822320" cy="1531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1952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304920"/>
            <a:ext cx="9448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After you have finished your web, answer thes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 if the aquatic plants died out because of pol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 if the population of great blue heron was to dou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carp consume zooplankton, which many fishes typically feed on in their juvenile stages, and have no known predators. How would the introduction of an Asian carp aff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od we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0:03:37Z</dcterms:created>
  <dc:creator>Tracy Trimpe</dc:creator>
  <dc:description/>
  <dc:language>en-US</dc:language>
  <cp:lastModifiedBy>Tracy Trimpe</cp:lastModifiedBy>
  <dcterms:modified xsi:type="dcterms:W3CDTF">2008-10-20T21:44:14Z</dcterms:modified>
  <cp:revision>50</cp:revision>
  <dc:subject/>
  <dc:title>Ecology</dc:title>
</cp:coreProperties>
</file>